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F450-2804-4F3F-9DED-E0D62D613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8080" y="157680"/>
            <a:ext cx="451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828828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680" y="3663720"/>
            <a:ext cx="828828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C6DE-EB1C-4B76-93D2-43AEAFFB6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080" y="157680"/>
            <a:ext cx="451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404460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9960" y="950400"/>
            <a:ext cx="404460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2680" y="3663720"/>
            <a:ext cx="404460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9960" y="3663720"/>
            <a:ext cx="404460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7375-C7EF-48EC-8C8C-6ADA98BF6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8080" y="157680"/>
            <a:ext cx="451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266868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5280" y="950400"/>
            <a:ext cx="266868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7520" y="950400"/>
            <a:ext cx="266868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2680" y="3663720"/>
            <a:ext cx="266868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5280" y="3663720"/>
            <a:ext cx="266868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7520" y="3663720"/>
            <a:ext cx="266868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35E6-19D5-4BEE-8D76-995CF863A1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8080" y="157680"/>
            <a:ext cx="451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72680" y="950400"/>
            <a:ext cx="828828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845D-A041-419E-88D8-7C257E696B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080" y="157680"/>
            <a:ext cx="451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82882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4E54-DD18-4123-BC6E-D166BDFF9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080" y="157680"/>
            <a:ext cx="451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404460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9960" y="950400"/>
            <a:ext cx="404460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05BB-AB0A-42AF-B283-6E86C59ED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8080" y="157680"/>
            <a:ext cx="451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7EA9-5C20-4675-A135-0BEE76B87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98080" y="193680"/>
            <a:ext cx="4519800" cy="17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FBD4-5FAC-4A02-AF29-ED5A72DAB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8080" y="157680"/>
            <a:ext cx="451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404460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9960" y="950400"/>
            <a:ext cx="404460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680" y="3663720"/>
            <a:ext cx="404460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56BB-5785-4DCC-BF9E-D461C4DBD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8080" y="157680"/>
            <a:ext cx="451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404460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9960" y="950400"/>
            <a:ext cx="404460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9960" y="3663720"/>
            <a:ext cx="404460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B41E1-5A8C-41BD-8D14-9B8E0C96C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8080" y="157680"/>
            <a:ext cx="451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404460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9960" y="950400"/>
            <a:ext cx="404460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2680" y="3663720"/>
            <a:ext cx="828828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0CBC-E73C-47C6-83B5-B702D712C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054840" y="171360"/>
            <a:ext cx="1865160" cy="37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8080" y="193680"/>
            <a:ext cx="45198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2680" y="950400"/>
            <a:ext cx="82882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82DE-0B59-4206-9C91-1C151C1DE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7800" y="762120"/>
            <a:ext cx="8526600" cy="5410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45240" y="6248520"/>
            <a:ext cx="312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sterdam, 9/10-09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8620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fld id="{373D1DB1-5259-44C6-8C80-3C3143ACD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20760" y="6249960"/>
            <a:ext cx="292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DF5 discu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5270400" y="0"/>
            <a:ext cx="1011240" cy="71604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7659720" y="136440"/>
            <a:ext cx="135108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DF5 and casacor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 van Di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8080" y="193680"/>
            <a:ext cx="45198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0.5 GB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82882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eating tLatticePerf_tmp.tab with shape [512, 512, 512] and tile shape [32, 32, 3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   create        21.31 real        0.75 user        1.46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eating tLatticePerf_tmp.hdf with shape [512, 512, 512] and tile shape [32, 32, 3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   create        27.15 real        0.67 user        0.98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   getTiles      20.74 real        0.62 user        1.5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   getTiles      19.89 real        0.36 user        0.8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xy getPlane      19.17 real        0.74 user        1.66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xy getPlane      29.32 real        1.46 user        1.13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xz getPlane      22.93 real        1.25 user        1.74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xz getPlane      26.51 real        1.94 user        1.1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yz getPlane      62.63 real        6.73 user        2.27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yz getPlane      74.89 real       19.67 user        1.45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x  getLine       18.58 real        1.79 user        1.57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x  getLine       43.91 real       27.01 user        0.9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y  getLine          46 real        2.41 user        2.18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y  getLine        83.2 real       36.41 user        1.5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z  getLine        42.6 real        2.91 user        2.15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z  getLine       84.69 real       41.87 user        1.41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8080" y="193680"/>
            <a:ext cx="45198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0.5 GB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82882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eating tLatticePerf_tmp.tab with shape [1024, 1024, 128] and tile shape [64, 64, 16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   create        24.28 real        0.77 user        1.44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eating tLatticePerf_tmp.hdf with shape [1024, 1024, 128] and tile shape [64, 64, 16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   create        22.94 real        0.64 user        0.94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   getTiles       20.3 real        0.55 user        1.4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   getTiles       19.9 real        0.29 user        0.78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xy getPlane      19.06 real        0.83 user        1.57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xy getPlane      21.11 real        0.86 user           1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xz getPlane      22.04 real        0.93 user        1.61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xz getPlane      28.69 real        1.51 user        1.0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yz getPlane      48.88 real        7.08 user        2.08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yz getPlane      55.24 real       19.79 user        1.2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x  getLine       20.12 real        1.11 user        1.51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x  getLine       30.67 real       13.22 user        0.88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y  getLine       41.32 real        1.72 user        1.97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y  getLine       55.62 real       22.01 user        1.19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z  getLine       36.12 real        5.15 user        1.84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z  getLine      100.49 real       67.79 user        1.25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8080" y="193680"/>
            <a:ext cx="45198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 GB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82882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eating tLatticePerf_tmp.tab with shape [2048, 2048, 64] and tile shape [128, 128, 8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   create        39.39 real        2.54 user        3.06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eating tLatticePerf_tmp.hdf with shape [2048, 2048, 64] and tile shape [128, 128, 8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   create        49.96 real        1.21 user        2.21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   getTiles      59.18 real        2.11 user        3.45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   getTiles      73.55 real        0.68 user        2.18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xy getPlane      45.98 real        2.17 user        3.34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xy getPlane      49.96 real        1.14 user        2.11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xz getPlane      51.63 real        1.97 user        3.31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xz getPlane      43.11 real        2.58 user         1.9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yz getPlane      73.26 real       15.21 user        3.64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yz getPlane      98.87 real       39.88 user        2.35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x  getLine       37.92 real        2.19 user        3.0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x  getLine       51.17 real       13.35 user        1.73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y  getLine        61.6 real        3.19 user        3.53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y  getLine      100.33 real       30.68 user        2.3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z  getLine       70.48 real       16.63 user        3.59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z  getLine      300.85 real      241.81 user        2.63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8080" y="193680"/>
            <a:ext cx="45198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 GB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82882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eating tLatticePerf_tmp.tab with shape [4096, 4096, 32] and tile shape [128, 128, 4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   create        85.27 real        3.14 user        5.79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eating tLatticePerf_tmp.hdf with shape [4096, 4096, 32] and tile shape [128, 128, 4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   create        83.29 real        2.59 user         3.7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   getTiles      75.12 real         2.2 user        5.64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   getTiles      84.17 real        1.21 user        3.31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xy getPlane      76.88 real        3.41 user        7.21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xy getPlane     129.02 real        2.36 user        4.65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xz getPlane     110.61 real        3.37 user        7.96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xz getPlane     154.15 real        9.12 user        5.03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yz getPlane      179.2 real       29.51 user        8.04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yz getPlane     257.18 real       85.12 user        5.04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x  getLine       74.77 real        3.12 user        6.1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x  getLine      105.67 real       26.36 user        3.49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y  getLine      170.27 real        5.56 user        7.9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y  getLine      223.01 real       63.88 user        4.8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z  getLine       182.7 real       60.03 user        7.67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z  getLine     1089.83 real      940.97 user        6.0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8080" y="193680"/>
            <a:ext cx="45198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82882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F5 line by line uses a lot of us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ed by independent tHDF5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ed as 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B-tree looku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F5 uses less system time, but usually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are about equal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F5 slightly larger (more if tiles are smal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B-tre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s faster because no fsync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r data sets kernel’s file cache not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8080" y="193680"/>
            <a:ext cx="45198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asacor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82882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library for astronomical data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ated N-dim arrays (STL-conform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ct-like contai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BMS-like storage mechanism; TaQL query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mentS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bility data storage and access (using Tab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in frame (direction, position, epoch, 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ld coordinates for im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-dimensional image cubes with 0 or more ma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ヒラギノ角ゴ Pro W3"/>
              </a:rPr>
              <a:t>_x0005_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lso supports HDF5, FITS, Miriad, expressions (LEL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by LOFAR, ASKAP, ALMA, eVLA, MeqTrees, pyrap, py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casacore.googlecod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www.astron.nl/casacore/trunk/casacore/doc/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Q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www.astron.nl/casacore/trunk/casacore/doc/notes/19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www.astron.nl/casacore/trunk/casacore/doc/notes/22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defin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www.astron.nl/casacore/trunk/casacore/doc/notes/22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8440" y="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40240" y="2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8080" y="193680"/>
            <a:ext cx="45198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DF5 in casacor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82882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C++ classes on top of subset of HDF5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http://www.astron.nl/casacore/trunk/casacore/doc/html/group__HDF5__modul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F5Hid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handling (automatically close a h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F5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F5Data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HDF5 data types for C++ data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F5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F5 dataset of various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chu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F5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a Record (dict) to HDF5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8080" y="157680"/>
            <a:ext cx="4519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82882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F5Lat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http://www.astron.nl/casacore/trunk/casacore/doc/html/classcasa_1_1HDF5Lattic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dim array in a HDF5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casacore Lattice/Image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iteration, subsetting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ally sizes HDF5 chunk cache given an access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F5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http://www.astron.nl/casacore/trunk/casacore/doc/html/classcasa_1_1HDF5Image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F5Lattice with world coord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s stored using HDF5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casacore Image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dImage, FITSImage, MiriadImage, Image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8080" y="193680"/>
            <a:ext cx="45198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82882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atticePe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3-dim float lattice using casacore Tables or HDF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MacBook 2 GB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rate by chunk, plane, an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is done tile-wise to reduce required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array and chunk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^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^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^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^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^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^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 G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24,1024,12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,64,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 G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48,2048,6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,128,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G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96,4096,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,128,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G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^3 array with chunk sizes 2, 4, 8, 16, 32, 64, 128 (^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ompared file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6680" y="5727600"/>
            <a:ext cx="64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8080" y="193680"/>
            <a:ext cx="45198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28^3 float;  chunk 2^x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82882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HDF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cc99"/>
                </a:solidFill>
                <a:latin typeface="Arial"/>
              </a:rPr>
              <a:t>CCTS cach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HDF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cc99"/>
                </a:solidFill>
                <a:latin typeface="Arial"/>
              </a:rPr>
              <a:t>CCTS cac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7360" y="890640"/>
            <a:ext cx="4379760" cy="4402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383000" y="954000"/>
            <a:ext cx="4397400" cy="4313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2240" y="5494320"/>
            <a:ext cx="75772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size (KB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Tile (s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HDF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cc99"/>
                </a:solidFill>
                <a:latin typeface="Arial"/>
              </a:rPr>
              <a:t>CCTS cac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ime for very large ch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8080" y="193680"/>
            <a:ext cx="45198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etplanexy,xz,yz, getlinex,y,z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82882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54120" y="1081080"/>
            <a:ext cx="2771640" cy="2357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82840" y="1081080"/>
            <a:ext cx="2779920" cy="2351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907240" y="1093680"/>
            <a:ext cx="2746080" cy="2325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79320" y="3494160"/>
            <a:ext cx="2779920" cy="2414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282840" y="3519360"/>
            <a:ext cx="2754360" cy="2433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5848200" y="3544920"/>
            <a:ext cx="2757600" cy="239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5040" y="5892840"/>
            <a:ext cx="4743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HDF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cc99"/>
                </a:solidFill>
                <a:latin typeface="Arial"/>
              </a:rPr>
              <a:t>CCTS cac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CTS m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8080" y="193680"/>
            <a:ext cx="45198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8 MB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82882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eating tLatticePerf_tmp.tab with shape [128, 128, 128] and tile shape [16, 16, 16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   create         0.23 real        0.02 user        0.05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eating tLatticePerf_tmp.hdf with shape [128, 128, 128] and tile shape [16, 16, 16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   create         0.37 real        0.02 user        0.03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   getTiles       0.03 real        0.01 user        0.0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   getTiles       0.02 real        0.02 user        0.01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xy getPlane       0.03 real        0.01 user        0.0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xy getPlane       0.06 real        0.06 user        0.01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xz getPlane       0.04 real        0.01 user        0.0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xz getPlane       0.08 real        0.07 user        0.01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yz getPlane       0.06 real        0.04 user        0.0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yz getPlane       0.17 real        0.16 user        0.01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x  getLine        0.09 real        0.06 user        0.0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x  getLine        0.85 real        0.83 user        0.01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y  getLine        0.08 real        0.06 user        0.0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y  getLine        0.98 real        0.97 user        0.01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z  getLine        0.08 real        0.07 user        0.0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z  getLine        1.16 real        1.03 user        0.01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8080" y="193680"/>
            <a:ext cx="45198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64 MB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72680" y="950400"/>
            <a:ext cx="82882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eating tLatticePerf_tmp.tab with shape [256, 256, 256] and tile shape [16, 16, 16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   create          2.2 real        0.13 user        0.33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eating tLatticePerf_tmp.hdf with shape [256, 256, 256] and tile shape [16, 16, 16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   create         2.37 real        0.12 user        0.22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   getTiles       0.24 real        0.09 user        0.15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   getTiles       0.15 real         0.1 user        0.05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xy getPlane       0.31 real        0.11 user        0.19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xy getPlane       0.61 real        0.52 user        0.08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xz getPlane       0.36 real        0.17 user        0.19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xz getPlane       0.76 real        0.68 user        0.08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yz getPlane       0.56 real        0.37 user        0.19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yz getPlane       1.55 real        1.45 user        0.09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x  getLine         0.5 real        0.34 user        0.16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x  getLine        6.61 real        6.53 user        0.06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y  getLine        0.48 real        0.32 user        0.16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y  getLine        7.82 real        7.73 user        0.07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CTS z  getLine        0.48 real        0.31 user        0.16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DF5 z  getLine        8.31 real        8.19 user        0.08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0:55:08Z</dcterms:created>
  <dc:creator>nijboer</dc:creator>
  <dc:description/>
  <dc:language>en-US</dc:language>
  <cp:lastModifiedBy>Ger van Diepen</cp:lastModifiedBy>
  <cp:lastPrinted>2009-02-10T08:25:44Z</cp:lastPrinted>
  <dcterms:modified xsi:type="dcterms:W3CDTF">2010-09-09T16:59:23Z</dcterms:modified>
  <cp:revision>447</cp:revision>
  <dc:subject/>
  <dc:title>Geen diatitel</dc:title>
</cp:coreProperties>
</file>